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7A9-51C3-4259-9807-C2B0E3C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CD9-4C0C-445A-8E0D-99029309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1653C-9D8A-41A0-9FE8-A580241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29ED7-1AA7-41DA-8B6E-AF483C4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328F3-F160-465C-90A1-4E3DD33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D22F7-2B48-4D3F-AA73-1FE4278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13875-3D71-487D-A879-4F7711A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7D1FD-7B21-49CF-815E-278E339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91A11-1271-4E3C-B652-E2DC5A0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39B2-83C9-48D7-96C5-E4E65579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9872-9BA3-472C-AD12-9B3B6DD9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DE329-718B-4827-9E55-F817FA1C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573-DA2A-4807-8D7B-F39A2A3E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15D97-43FB-4BB9-A4F6-04101C5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9198B-8653-47F9-B3F0-0ADD5E73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93B2-16D9-40CD-ADB3-2DBD0CE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CFCD9-C1E3-4ADF-8954-A940F69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7E6E1-8B71-4519-A7A6-BEA544D2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C03CA-5C2D-49F1-9E7B-89D284E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83D5B-EC20-4AF2-AC18-B85D6C1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789B-1EC3-4D94-9726-AFCF623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1450-D1D8-4D71-A02F-C4B0BD05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E2CB-4FEC-41FC-9E89-D9A0C58D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156-C957-4193-BA44-A09C4173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879DC-4979-4D0E-A046-5FB266E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4F85-0F22-4F63-BA15-99E0F375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19F70-20B2-4052-BC13-9283B8D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2E0E4-CEF8-4FE1-9B39-8ABB732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77AFC-5D3E-4B0E-9638-2EB921B5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19DE4-0FC7-4C62-9F23-EF9E3CA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55F26-E184-4C3E-B5B5-E0982FEB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14656-F1F3-4C7A-879D-EFA7187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01F30-2F85-4AB6-9C8D-531CCB4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84E6B-841D-45E0-A314-888C3F6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87F-4684-4A80-86F8-8D3D7ABF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CFBB1-2ADB-4A74-890F-AB9ECD6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D5D2B-9D7C-4AA5-A382-3E8CDBCE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890C9-5E5E-46E0-BB8E-583C484C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A92A4-B4DB-4704-8026-27FA8656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BF0E1-4E93-443C-883E-E21EBAF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5458A-43B0-4E90-9689-0F65B6AA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71F1E-486E-4D68-AB66-1220A58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FBC1-A774-48E8-9ECA-5303104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A1C4-7D28-4D44-AA67-86C82FC4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B90F7-C9B3-4E20-AAD2-30BCC58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7B0-8FB6-4A64-B064-27EC63EC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D243D-39D8-44D3-95C5-65F0B06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52D5B-2669-4E8D-94B1-6351DC1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BE4F-1301-440A-8DA7-F6AB628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75109-1B3C-43E5-8A74-629850AD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DC337-1EE9-4191-A0DC-6A77827B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B5AB4-F45D-4930-AECE-6225C50F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DF1F0-3E80-4ECB-868B-B66F8691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FF633-79D3-4DF3-A805-CFC41B2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E1867-F2A2-4152-8011-BAB5350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C54B5-DCD2-43F4-B6FB-E1B656F7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2795-DD1D-4818-8C8D-33F4B327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69F1C-36F0-4C21-BB9E-5BE5236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AFB6F-25A6-45DE-80CE-B5E7370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6CB1D-5676-4062-BBDB-7E18E72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8D999-1D9F-4938-BCE7-0F8E838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6045F-831B-4FF6-A04A-50E478F7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B62E2-884C-43F7-8BAC-F0B7925B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C33AA-AE39-4C57-B912-3F5114A6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DCD0D-EE04-4EA4-82EA-3F74A125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25729-716B-4B9B-9F86-C469199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6D126-5973-47E7-B127-A9D974E3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E6AE-85C4-4EBE-998E-F1448441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BF567-1F92-496F-9C18-A7713FD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5B010-9B45-4A1F-9D78-AD9F2002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B43CF-4C9E-47D7-AD91-A26AD102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E6785-8825-4059-9F37-26B73DF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E3380-358A-4459-BBFF-F91FB8C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6429C-3A9E-4238-AD30-619AB7A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C39CA-A2CC-4559-979D-94EFEAB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848EB-1B3A-4CAA-94C4-338B39CA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A3BDE-FCF2-4454-8DFE-674DD3FB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63000-7E1B-4AC9-8F66-610CF1DC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D197-D70D-4D51-9CD9-9639D830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FBFF4-FD54-4B4A-99A5-F0DA125C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E61AC-A119-415D-89C5-DB1F429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5FDDC-1B04-4530-A62B-F2759FBA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86B49-9966-4557-8419-FF30EE46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6F942-4BF0-4934-9922-95A916A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3D185-7D0F-4078-979F-A9368E1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1B1C5-E1EB-41AC-82B7-F106C42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F8E05-15CE-4B18-855C-1E58496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8A900-9510-434D-BE81-CDAEB88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535DE-AA90-452D-8745-E3BFD442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D2A9-9D86-48B1-97BF-2DD3970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FBD33-A300-448A-88E7-41A2CBF0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64D1D-8662-45A3-AEF1-F1FCE34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76EE5-B142-4AA5-9308-3375488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925DB-3BA0-4A92-9509-65492BF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27BF0-0ACB-479E-9E0A-A6F4C70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5EF90-3677-4D22-84D0-4001353A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48FAA-7F77-459C-B9DE-50DACB33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4DB76-9641-4EA9-85FA-798F599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536D6-2AAB-4F34-8D95-92E7B49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B843C-6F9E-4717-A7F4-D932387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0EA7-B1D1-45A6-BDE0-A19C8D7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12B6C-0EC7-4948-99D2-BBD34E89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17715-38D9-47EA-A08A-8D9B8547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E5550-BA16-4197-92C1-1BD297EF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45C-5CC3-4BD1-B59C-AF0D28F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593-D21C-433F-976D-3AFA48F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C003-8E33-40AC-8473-708D54D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F631-709D-4934-A231-F3EBCFD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C92-BCB1-4BDE-9026-7AC271F7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27C-57F2-47CC-BAD0-CA76EDB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F709-D7A9-4E5F-8D6F-468FE026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9AC9-3CDF-4700-A483-EE88337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CD66-7F92-4046-A52C-A71C3536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89A7-2BCE-4984-A954-AA967A4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E7B4-1D01-495F-AA9D-9C87AA46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695-E856-4D39-A548-96CF87B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82B5-603F-4E9D-B8A2-46D11A6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834F-46E9-4583-BFC0-C92BC7A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0A3D-A026-4885-A5B1-0C7C107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F1DF-ACFF-48A9-BB0E-57E64F6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0BD9-EA6E-48E3-A15C-47A61F89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2816-FA8B-4BFC-BED4-A61BE1E6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B0EB-B610-458D-9940-7A0CFAC7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A069-A395-4404-B637-9CF60DA0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D4D5-1B01-4BB1-99E7-A270D5EA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245A-F647-4709-B0F7-2B43840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D7A-8F2E-4A22-86A2-5D8F5E51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0B50-5F77-4204-AA2B-8689464B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ECF9-89D7-4E7C-A30D-FE2C1A5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E0CA-D434-4074-A6D7-FB1CEAC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1305-A764-4F71-B735-FD671B4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9D2E-7406-4E44-BD65-A481A4F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C061-9532-4D4E-B314-3FAAE807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14E08-1EA6-44BE-BDDC-341D515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BCB2-0B1C-471B-9586-0194FDF3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3701-E930-49D3-BB05-2A0CE53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37F2-2C15-4D31-949E-86867AB3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AE2-9A15-4275-904F-2B99999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B61D1-DA61-4D45-B40A-E45E11B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345B-816C-43FD-9A02-F33495D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3072-06DC-499B-BEE8-B62CFC1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D387-EB5F-4983-8ED9-F8942A0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CABC-5D15-4D49-8123-6154DA9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B85AF-4173-4E77-992B-205C153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8655-20B2-4F6D-B83F-31DE97E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0116-9943-49BB-B303-5C0BA4F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9055-613D-4B0E-AE98-F865830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6873-81E6-4066-A4B4-06DCEBB8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9C0-65C9-44FD-9FF7-D5742A4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656A-E573-4EAD-A455-9F537B71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3DC0-B8FD-49B1-B3DD-7383DF6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AE7A-C7B5-4708-A1B4-6B98BF2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7FFD-5D50-4727-897C-B0D954F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D06B-EE02-49FE-95DC-3B03E829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6943-DFC1-49B1-A978-7B5C6AB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9D31-6BBB-468C-99A6-6434126C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F15D1-136D-4CC3-89EB-9A683EF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2AC4-1AE1-4ABE-A2A6-000AFAA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C481C-45C8-4347-A2DF-D543D200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611-CF76-40BE-ACFA-A26445D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3A8A-CBD4-4F09-89AA-5AD1041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2720-FE7A-4478-B9F3-4866E8E2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9F74-51DE-445A-8FE6-3878D52B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79D3-4050-47E7-A609-16E544A7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B695-163E-4135-AB64-0F60BAF8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07AE-D434-4BA2-B075-30B33BCD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4C85-153C-4487-AF9F-C92605C2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578B-F8A6-4514-94F6-87D4D5A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F693-3C81-44D0-97D7-24C2A25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8670-6B6E-41AA-B5FC-D79CE56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A1F-BD57-43B9-85FF-9FE97E4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12CD-F91F-49A7-BB40-50FF62D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0527-6BBF-4B53-80DF-DA57B9E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E2DDF-5DB9-4A2D-9771-62BD11E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D2ADE-1A8C-4EFE-94DB-1C77C974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9974-8B46-4202-BFB0-3EF2EC49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E820B-BE23-46A6-8724-7C0A8FBE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FD2F-B784-481E-A1F4-6042B17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F6B9-210D-4D26-B1B6-8027ACF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CC976-4E49-44E2-B4C6-AA58BAA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DC49B-D627-406E-B3DC-91060E76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5E4-BFE0-4E24-B9DD-353D9E3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697AE-1840-44F8-B2EF-83B9F02E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A63C-7F5A-49C8-93D0-E8A03A6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5054E-B7AF-4C67-B80F-AEF6FCB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2206-3EB8-4021-B011-A8673B6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2624-764F-4C10-B160-89C7791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02F70-BBE9-4FB1-B4A7-8B2E0AFD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2217-D5FB-47BC-88AC-44BC7F47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50DC-395C-4CA3-8144-71DEA29F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6E3F8-B0C9-418C-AD5E-FCC37ECB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549C-447A-4629-B0F2-743CBE4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ED10-CEBC-42DD-B093-397DB0A76F8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8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8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8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C1B0-CD4F-4368-BF7C-8DE4890AE95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3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3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3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839-0070-4280-A0AC-79342502A5F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8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8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9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9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2EB6-6417-4763-8805-980067B4C2B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4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5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88F-4FD3-49DD-A2CE-DB6E3AAA545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9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9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0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D666-0F10-4BDE-A7A6-B86BAC7C289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7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74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5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5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5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6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E58-3236-4A9F-86EA-7C80928A4B9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0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1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483-69FA-4FF8-8DF7-A7D2B1C4608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99DB-AFF3-4F98-87CD-9FF1074FD60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25F-476C-4787-A91F-FC2240E41B5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E46-5901-4BB2-B4B2-9797ED23FCA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133-329A-4E5F-9B54-712DFE907D2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6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9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15E-9E65-4923-95D5-D63F30C1184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1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20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242-280C-4FFC-88D2-956AAF1817F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6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7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48D-0BC0-4050-B8F6-5F4D1D0EC6D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2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3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3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9BAE-4255-4413-A6F1-EF7D00B48B0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24000" y="475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Calibri"/>
              </a:rPr>
              <a:t>1.Список рекомендуемой литератур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сновна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Скляр Б. Цифровая связь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, Санкт-П, Киев: Изд. дом «Вильямс», 2003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Передача дискретных сообщений: Учебник для ВУЗов / В. П. Шувалов, Н. В. Захарченко, В. О. Шварцман и др.; Под ред. В. П. Шувалова. – М.: Радио и связь, 1990 - 464 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Телекоммуникационные системы и сети: Учебное пособие. В 3-х томах. Том 1 – Современные технологии/ под ред. Шувалова В.П. – М.Телеком: 2005 – 647с.:и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ория электрической связи: Учебник для ВУЗов./ Зюко А.Г., Кловский Д.Д. – М:Радио и связь, 199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Кловский Д.Д., Шилкин В.А. Теория электрической связи: Сб.задач и упражнений.- М: Радио и связь, 1990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)Цифровая телефония: Беллами Дж.,  Пер. с англ./ Под ред. А.Н.Берлина, Ю.Н.Ченышева.- М.:Эко-Трендз, 2004. – 640с.: илл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468360" y="476280"/>
            <a:ext cx="7920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олнитель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)Гаранин М.В., Журавлев, Кунегин С.В. Системы и сети передачи информации. </a:t>
            </a:r>
            <a:r>
              <a:rPr b="0" lang="ru-RU" sz="24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Радио и связь, 2001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)Основы кодирования: Учебник для Вузов./М.Вернер. – М.Техносфера, 200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)Макаров А.А., Прибылов В.П. Помехоустойчивое кодирование: Монография/СибГУТИ - Новосибирск, 200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агутенко О.И. Современные модемы. </a:t>
            </a:r>
            <a:r>
              <a:rPr b="0" lang="ru-RU" sz="24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Эко-Тредз, 200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пинов Ю.П. и др. Основы передачи дискретных сообщений -М.: Радио и связь, 199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)Захарченко И.Б. и др. Основы передачи дискретных сообщений. -М.: Радио и связь, 1990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3)Сергиенко А.Б. Цифровая обработка сигналов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б.: Питер, 2002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4)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елухин О.И., Лукьянцев Н.Ф. Цифровая обработка и передача речи.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Радио и связь, 200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5)Ватолин Д.С. Алгоритмы сжатия изображений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МГУ, 1999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6)Абдуллаев Д.А., Арипов М.Н. Передача дискретных сообщений в задачах и упражнениях. - М.; Радио и связь, 1985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7)Передача дискретной информации: Учебник для ВУЗов / Г. А. Емельянов, В. О. Шварцман - М.: Радио и связь, 1982-240 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)Аджемов А.С. и др. Многоканальная электросвязь и каналообразующая телеграфная аппаратура. - М.: Радио и связь, 1981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9)Коржик В.И. и др. Расчет помехоустойчивости систем передачи дискретных сообщений. Справочник, - М.: Радио и связь, 1981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)Питерсон У., Уэлдон Э. Коды, исправляющие ошибки. - М.: Мир, 1976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539280" y="333000"/>
            <a:ext cx="808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1)Прокис Дж. Цифровая связь. - М.: Радио и связь, 200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2)Цифровая связь. - М., Санк-П, Киев: Изд. дом «Вильяме», 2003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3)Кудряшов В.А., Глушко В.П. Системы передачи дискретной информации: Учебник – М:УМК МПС, 2002. – 384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4)Баскаков С.И. Радиотехнические цепи и сигналы: Руководство к решению задач. – М: Высшая школа,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5)Тепляков И.М. Телекоммуникационные системы: Сборник задач. -  М: РадиоСофт,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6)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bView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для всех / Дж.Трэвис, Дж.Кринг – М.: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V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есс, 2008 – 880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7)Хернитер Марк Е. Современная система компьютерного моделирования и анализа схем электронных устройств. / Пер. с англ . Осипов А.И . – М .: Издательский дом ДМК пресс, 2006. – 488 с.: и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0:27:31Z</dcterms:created>
  <dc:creator>Регина</dc:creator>
  <dc:description/>
  <dc:language>en-US</dc:language>
  <cp:lastModifiedBy>Регина</cp:lastModifiedBy>
  <dcterms:modified xsi:type="dcterms:W3CDTF">2014-04-23T11:19:55Z</dcterms:modified>
  <cp:revision>2</cp:revision>
  <dc:subject/>
  <dc:title>Презентация PowerPoint</dc:title>
</cp:coreProperties>
</file>